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4 videos, each are about 2 minutes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 group of 3, then C &amp; D could be combined… Part C has lots of ch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 Create a graph, symbol, picture, word splash, poem, etc. that demonstrates the key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84C6-D749-4BEC-8241-37CAC76D0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9BD4-14C0-4385-BC53-2EE287E04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C722-4B6A-4B24-8AAF-9197528ED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FD1A-69D7-4896-A2EA-69A10E089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04A2-2512-45CB-AD5D-068CB0E9A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1BE8-4278-49E2-83FA-E4B7DF5FC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8319-9D25-4526-BB89-62B0CA7BA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FC17-7DAF-494A-BC7D-5C4451CF3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A07A-A2DA-439E-85C5-A98BBAEF9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4F9-4698-4631-91EE-C0D5DFF52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96BA-B318-42CF-8EDA-28EAF7C70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467D-255C-413F-A982-423FA9B4B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61C-5984-4CCD-B056-3E3FA952E6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214-FF15-40D8-806D-6E09457357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Algebraic Thinking Sess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to Video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respond effectively to this pair of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r suggested response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C24-E190-4914-97B8-59ED5624EE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sponding with Time ~20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samples of studen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how you will respond to this small group of students during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thematics will you focus 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you s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(s) will you as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one representative sample to share with the whole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4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D019-4211-4D6D-BD69-1DCA2E9DA4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ponding with Time ~15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resentative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verview of your response to thi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469-EF11-4B4A-A19A-411C15FAC9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se groups of students are in the same class.  Now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manage differentiated responses to the individuals and small groups in our class who have different lear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0139-5596-4127-A862-EF90A93065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9000" y="16002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feel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E4BC-D491-4B0C-9CA3-BDE7EF8D36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Z:\Clip Art\Road Signs\Traffic Signals\Signal 54.wmf"/>
          <p:cNvPicPr/>
          <p:nvPr/>
        </p:nvPicPr>
        <p:blipFill>
          <a:blip r:embed="rId1"/>
          <a:stretch/>
        </p:blipFill>
        <p:spPr>
          <a:xfrm>
            <a:off x="401760" y="1447920"/>
            <a:ext cx="144756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onsolidate: 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today’s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eel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A7A8-5C1A-47F0-9A15-2411CFD292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Z:\Clip Art\Travel &amp; Leisure\Vacations (F - Q)\Map.wmf"/>
          <p:cNvPicPr/>
          <p:nvPr/>
        </p:nvPicPr>
        <p:blipFill>
          <a:blip r:embed="rId1"/>
          <a:stretch/>
        </p:blipFill>
        <p:spPr>
          <a:xfrm>
            <a:off x="6553080" y="195120"/>
            <a:ext cx="1227240" cy="11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Z:\Clip Art\Travel &amp; Leisure\Vacations (F - Q)\Passport 1.wmf"/>
          <p:cNvPicPr/>
          <p:nvPr/>
        </p:nvPicPr>
        <p:blipFill>
          <a:blip r:embed="rId2"/>
          <a:stretch/>
        </p:blipFill>
        <p:spPr>
          <a:xfrm rot="21444000">
            <a:off x="7997400" y="510840"/>
            <a:ext cx="83844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characteristics of effec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and extend personal repertoire of question stems to be used when responding in the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903-6A7D-4B24-82B7-EB2B4705CD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51E-C62A-43E2-A2E4-1308D94A5E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lgebraic Thinking ~ Session #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2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on  and extend personal repertoire of strategies for responding to groups of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strategies that facilitate multiple responses within a singl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athematical thinking in a range of responses to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5A2F-B540-471D-843B-978630DB11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91F-BB74-4858-A98B-5C462DFA2F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Think/Pair/Shar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 time when you received feedback that really helped you to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feedback look like?  Feel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it eff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481-C0BD-4665-82E1-6735B04121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Z:\Clip Art\Sports\Cartoons (A - Ba)\Baseball - Coach 3.wmf"/>
          <p:cNvPicPr/>
          <p:nvPr/>
        </p:nvPicPr>
        <p:blipFill>
          <a:blip r:embed="rId1"/>
          <a:stretch/>
        </p:blipFill>
        <p:spPr>
          <a:xfrm>
            <a:off x="6248520" y="4419720"/>
            <a:ext cx="274608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inds On: Self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041-929C-42B3-A039-4DE7D80210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81040" y="1143000"/>
            <a:ext cx="7572240" cy="430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Z:\Clip Art\Travel &amp; Leisure\Vacations (F - Q)\Map.wmf"/>
          <p:cNvPicPr/>
          <p:nvPr/>
        </p:nvPicPr>
        <p:blipFill>
          <a:blip r:embed="rId2"/>
          <a:stretch/>
        </p:blipFill>
        <p:spPr>
          <a:xfrm>
            <a:off x="228600" y="617400"/>
            <a:ext cx="92880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Z:\Clip Art\Travel &amp; Leisure\Vacations (F - Q)\Passport 1.wmf"/>
          <p:cNvPicPr/>
          <p:nvPr/>
        </p:nvPicPr>
        <p:blipFill>
          <a:blip r:embed="rId3"/>
          <a:stretch/>
        </p:blipFill>
        <p:spPr>
          <a:xfrm rot="21444000">
            <a:off x="8226360" y="550440"/>
            <a:ext cx="6224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Create a Group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into a group of 4 people based on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o is A, B, C, and D based on years of teaching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– least hair  through to D - most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205E-9EE2-406A-9A4D-D449A2E3FF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Z:\Clip Art\Clothing &amp; Accessories\Glasses\Eyeglasses 16.wmf"/>
          <p:cNvPicPr/>
          <p:nvPr/>
        </p:nvPicPr>
        <p:blipFill>
          <a:blip r:embed="rId1"/>
          <a:stretch/>
        </p:blipFill>
        <p:spPr>
          <a:xfrm>
            <a:off x="1371600" y="2743200"/>
            <a:ext cx="1266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Z:\Clip Art\Cartoons\Make Your Own! (A - Ha)\Ear 6.wmf"/>
          <p:cNvPicPr/>
          <p:nvPr/>
        </p:nvPicPr>
        <p:blipFill>
          <a:blip r:embed="rId2"/>
          <a:stretch/>
        </p:blipFill>
        <p:spPr>
          <a:xfrm>
            <a:off x="6858000" y="2292480"/>
            <a:ext cx="581040" cy="1447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Z:\Clip Art\People\Cartoons (Ma - Ma) 1\Man Running 02.wmf"/>
          <p:cNvPicPr/>
          <p:nvPr/>
        </p:nvPicPr>
        <p:blipFill>
          <a:blip r:embed="rId3"/>
          <a:stretch/>
        </p:blipFill>
        <p:spPr>
          <a:xfrm>
            <a:off x="4038480" y="2666880"/>
            <a:ext cx="116856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6640" y="228600"/>
            <a:ext cx="63198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</a:t>
            </a:r>
            <a:br>
              <a:rPr sz="44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earch Article ~10 mi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318744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Highl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Feedback as Part of Formative Assessment (pp 1-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~ What the Research Shows (pp 3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~ Feedback Strategies and Content (pp 4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~ Feedback and Grading (pp 7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588A-580C-4016-A92F-1E3F2E6DF4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1685880" cy="1884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233280" y="23763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Susan Brook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 Callout 4"/>
          <p:cNvSpPr/>
          <p:nvPr/>
        </p:nvSpPr>
        <p:spPr>
          <a:xfrm>
            <a:off x="4495680" y="1676520"/>
            <a:ext cx="4496040" cy="1511280"/>
          </a:xfrm>
          <a:prstGeom prst="cloudCallout">
            <a:avLst>
              <a:gd name="adj1" fmla="val -47884"/>
              <a:gd name="adj2" fmla="val 46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characteristics of effective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are and Summarize ~15 min</a:t>
            </a:r>
            <a:endParaRPr b="0" lang="en-US" sz="32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what you read using a Round Robin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key characteristics of effec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wish to choose a product that aligns with your preferred learning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product with the larg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83B-A1BB-41B8-B167-2E2B55C447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tion:  Responding to 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9 students are responding to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called A is 20% of a number called B. But A is 40% of 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B a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90B5-0425-4240-92FE-D48C1F4507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1-08-10T13:25:23Z</dcterms:modified>
  <cp:revision>23</cp:revision>
  <dc:subject/>
  <dc:title>&lt;Title&gt;</dc:title>
</cp:coreProperties>
</file>